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2312-6A3F-4BF5-8924-4C22282EA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E3FD-5757-48A4-A9DC-FBBB5522D4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Key feature of C# 3.0 and VB 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A82D-2E1C-4810-A941-416701AB49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is is the situation today, a different language for each technolog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9139-4612-4BC4-B697-D5E6F97B7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Hard to write database-neutral SQL because of subtle variances in the parameters, escaping, types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9B19-12FB-4E18-A805-AFBB5DCCA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is is the same query in LINQ. You'll notice that the syntax is similar to SQL but with the select last. This is to facilitate IntelliSense - it needs to know what you are selecting from before it can offer what is available within that sel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msdn.microsoft.com/en-us/library/bb308960.aspx" TargetMode="External"/><Relationship Id="rId2" Type="http://schemas.openxmlformats.org/officeDocument/2006/relationships/hyperlink" Target="http://msdn.microsoft.com/en-us/library/bb308960.aspx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w Cen MT Condensed"/>
              </a:rPr>
              <a:t>LINQ</a:t>
            </a:r>
            <a:endParaRPr b="0" lang="en-US" sz="6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lides from Gang Luo, Xuting Zhao and Damien Gu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53" name="Picture 5" descr="LINQArchitecture"/>
          <p:cNvPicPr/>
          <p:nvPr/>
        </p:nvPicPr>
        <p:blipFill>
          <a:blip r:embed="rId1"/>
          <a:stretch/>
        </p:blipFill>
        <p:spPr>
          <a:xfrm>
            <a:off x="1600200" y="1676520"/>
            <a:ext cx="6858000" cy="48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Q to Objec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3520" y="1946160"/>
            <a:ext cx="7358040" cy="45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33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int[] nums = new int[] {0,4,2,6,3,8,3,1};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double average = nums.Take(6).Average();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var above = from n in num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            where n &gt; average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            select n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3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Q to Objec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3520" y="1945800"/>
            <a:ext cx="735804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any IEnumerable&lt;T&gt; sour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rrays, List&lt;T&gt;, Dictionary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useful operators avail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, Max, Min, Distinct, Intersect, Un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e your own data with IEnumerable&lt;T&gt; or IQueryable&lt;T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perators using extension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Q operato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89120" y="1908000"/>
          <a:ext cx="8126280" cy="4091040"/>
        </p:xfrm>
        <a:graphic>
          <a:graphicData uri="http://schemas.openxmlformats.org/drawingml/2006/table">
            <a:tbl>
              <a:tblPr/>
              <a:tblGrid>
                <a:gridCol w="1625400"/>
                <a:gridCol w="1700280"/>
                <a:gridCol w="1600200"/>
                <a:gridCol w="1574640"/>
                <a:gridCol w="1625760"/>
              </a:tblGrid>
              <a:tr h="547920"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Aggrega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872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7f7f7f">
                        <a:alpha val="50000"/>
                      </a:srgbClr>
                    </a:solidFill>
                  </a:tcPr>
                </a:tc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Convers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872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7f7f7f">
                        <a:alpha val="50000"/>
                      </a:srgbClr>
                    </a:solidFill>
                  </a:tcPr>
                </a:tc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Orderin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872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7f7f7f">
                        <a:alpha val="50000"/>
                      </a:srgbClr>
                    </a:solidFill>
                  </a:tcPr>
                </a:tc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Partitionin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872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7f7f7f">
                        <a:alpha val="50000"/>
                      </a:srgbClr>
                    </a:solidFill>
                  </a:tcPr>
                </a:tc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Se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872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7f7f7f">
                        <a:alpha val="50000"/>
                      </a:srgbClr>
                    </a:solidFill>
                  </a:tcPr>
                </a:tc>
              </a:tr>
              <a:tr h="3543120"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Aggregate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Average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Count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Max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Min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Su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872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Cast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OfType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ToArray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ToDictionary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ToList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ToLookup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ToSequ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872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OrderBy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ThenBy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escending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Revers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872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Skip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SkipWhile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Take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TakeWhil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872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Concat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istinct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Except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Intersect</a:t>
                      </a:r>
                      <a:br>
                        <a:rPr sz="2500"/>
                      </a:b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Un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872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40"/>
          <p:cNvSpPr/>
          <p:nvPr/>
        </p:nvSpPr>
        <p:spPr>
          <a:xfrm>
            <a:off x="4277520" y="6172920"/>
            <a:ext cx="1213920" cy="274680"/>
          </a:xfrm>
          <a:prstGeom prst="rect">
            <a:avLst/>
          </a:prstGeom>
          <a:solidFill>
            <a:srgbClr val="ad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other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Query Express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-lik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s in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.Length == 5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der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lect s.ToUpper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-sty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 =&gt; s.Length==5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der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 =&gt;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 =&gt; s.ToUpper(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, OrderBy, and Select are operators. The arguments to these operators are Lambda Expressio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mbda Expressions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&gt; s.Length ==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able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nymous functional. Can be assigned to a delegate vari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indicate the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passed to methods as parame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-memory data representations of lambda expr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the behaviors of the expr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ing your own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unction Typ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&lt;int, bool&gt; is a shorthan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nconsolata"/>
              </a:rPr>
              <a:t>public delegate bool Func(int a0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nconsolata"/>
              </a:rPr>
              <a:t>// Initialized with anonymous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nconsolata"/>
              </a:rPr>
              <a:t>Func&lt;int, bool&gt; even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consolat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Inconsolata"/>
              </a:rPr>
              <a:t>delegate (int x) { return x % 2 == 0; }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nconsolata"/>
              </a:rPr>
              <a:t>// Initialized with lambda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nconsolata"/>
              </a:rPr>
              <a:t>Func&lt;int, bool&gt; even2 = x =&gt; x % 2 == 0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ethods Extens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2120" y="16002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not only by Lambda Expression, but also by methods ex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public static class Enumerable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public static IEnumerable&lt;T&gt; Where&lt;T&gt;(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this IEnumerable&lt;T&gt; sourc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Func&lt;T, bool&gt; predicat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foreach (T item in sour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if (predicate(item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yield return item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Q Operations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600200"/>
            <a:ext cx="823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re is relationship (e.g. foreign key) between two tables, no explicit join operation is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dot notation to access the relationship properties, and navigate all the matching objec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var q = from o in db.Orders where o.Customer.City == “Londo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select o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join any two data sources on any attribute, you need an explicit join opera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var query = names.Join(people, n =&gt; n, p =&gt; p.Name, (n, p) =&gt; 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mbda expression for shaping (n, p) =&gt; p will be applied on each matching pai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Q Operations (cont.)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Joi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mbda expression for shaping is applied on the outer element and the set of all the inner elements that matches the outer 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pe the result at a set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var query = names.GroupJoin(people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n =&gt; n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p =&gt; p.Name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(n, matching) =&gt; new { Name = n, Count = matching.Count() 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Inconsolata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at is LINQ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Integrated Qu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query a part of th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of .NET Framework 3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Q Operations (cont.)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676160"/>
            <a:ext cx="8159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bject in the result set may contain a collection or 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many help decompose the structure and flatten the res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var query = names.SelectMany(n =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people.Where(p =&gt; n == p.Name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elements could be traversed in one 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for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o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aggregation operators: Min, Max, Sum, Aver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consolata"/>
              </a:rPr>
              <a:t>int totalLength=names.Sum(s =&gt; s.Length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urpose (generic) operato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static U Aggregate&lt;T, U&gt;(this IEnumerable&lt;T&gt; sourc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U seed, Func&lt;U, T, U&gt; fun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Q Deferre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NQ data source can actually implement one of two interfac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numerable&lt;T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Queryable&lt;T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deferred query execution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19320" y="3657600"/>
            <a:ext cx="6933960" cy="243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erface IQueryable&lt;T&gt;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numerable&lt;T&gt;, IQueryable, IEnumerabl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Queryable&lt;S&gt; CreateQuery&lt;S&gt;(Expression ex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Execute&lt;S&gt;(Expression ex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Queryab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Queryable&lt;T&gt; interface will defer the evaluation of the que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tree will represent all the deferred queries as a who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operations could be “merged”, only one SQL query will be generated and sent to datab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level defer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mbda Expressions Revisite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mbda expressionscan represent either IL code or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&lt;T&gt; makes the dif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handles Expression&lt;T&gt; types different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ts code to generate expression tree instead of usual IL for deleg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43000" y="3124080"/>
            <a:ext cx="7238880" cy="175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99"/>
                </a:solidFill>
                <a:latin typeface="Arial"/>
              </a:rPr>
              <a:t>Func&lt;int, bool&gt; lambdaIL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699"/>
                </a:solidFill>
                <a:latin typeface="Arial"/>
              </a:rPr>
              <a:t>n =&gt; n % 2 =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99"/>
                </a:solidFill>
                <a:latin typeface="Arial"/>
              </a:rPr>
              <a:t>Expression&lt;Func&lt;int, bool&gt;&gt; lambdaTre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699"/>
                </a:solidFill>
                <a:latin typeface="Arial"/>
              </a:rPr>
              <a:t>n =&gt; n % 2 =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pression Tre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 tree are hierarchical trees of instructions that compose an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value of expression tr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creating of IL is deferred until execution of qu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IL creation can v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can even be remoted for parallel proc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reating IL from Expression Tre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before execution tree is compiled into 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IL generation differs very much for each Linq flav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q to SQL generates IL that runs SQL comm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q to Objects builds IL with Sequence extensions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066680" y="2209680"/>
            <a:ext cx="7391520" cy="1524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99"/>
                </a:solidFill>
                <a:latin typeface="Arial"/>
              </a:rPr>
              <a:t>Expression&lt;Func&lt;Posting,bool&gt;&gt; predicat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2699"/>
                </a:solidFill>
                <a:latin typeface="Arial"/>
              </a:rPr>
              <a:t>p =&gt; p.Posted &lt; DateTime.Now.AddDays(-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99"/>
                </a:solidFill>
                <a:latin typeface="Arial"/>
              </a:rPr>
              <a:t>Func&lt;Posting,bool&gt; d = predicate.Compi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ested def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904760"/>
            <a:ext cx="7927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 de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you want the intermediate resul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143000" y="2362320"/>
            <a:ext cx="7620120" cy="1981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var q = from c in db.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where c.City == “Lond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select new { c.ContactName, c.Ph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var q2 = from c in q.AsEnumerabl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select new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   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Name = DoNameProcessing(c.ContactName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   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Phone = DoPhoneProcessing(C.Ph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1143000" y="4952880"/>
            <a:ext cx="7620120" cy="1524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string lastName = “Simp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var persons = from p in personList where p.LastName = lastName select 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lastName = “Fland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foreach (Person p in pers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Console.WriteLine(“{0} {1}”, p.FirstName, p.Last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ferred Execu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905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Advantage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erformance!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Query dependency!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2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Disadvantages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Divide one query into multiple on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If you iterate over the result set 100 times, the query will be executed 100 times.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Users have to be very carefu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825"/>
              </a:spcBef>
              <a:buClr>
                <a:srgbClr val="009900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Q to SQL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698120"/>
            <a:ext cx="7772400" cy="500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NQ to SQL helps connect to relational and manipulate the relational data as objects in memory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achieves this by translating the operations into SQL statement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066680" y="2133720"/>
            <a:ext cx="7620120" cy="3124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[Table(Name=“Customers”)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public class Custome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   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[Column(Id=true)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   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public string Customer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   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private EntitySet&lt;Order&gt; _Order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   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[Association(Storage=“_Orders”, OtherKey=“CustomerID”)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   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public EntitySet&lt;Order&gt; Orders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      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get { return _Orders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      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set { _Orders.Assign(value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   </a:t>
            </a: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99"/>
                </a:solidFill>
                <a:latin typeface="Inconsolat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Q to SQ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774800"/>
            <a:ext cx="7696080" cy="42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relational mapp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 become strongly-typed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ntext is the controller mechan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update, delete &amp; ins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s LINQ queries behind the sce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, parameter and injection sa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Query without LINQ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using loops and conditions</a:t>
            </a:r>
            <a:br>
              <a:rPr sz="28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foreach (Customer c in customers)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   if (c.Region == "UK") ..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s using SQL</a:t>
            </a:r>
            <a:br>
              <a:rPr sz="28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SELECT * FROM Customers WHERE Region='UK'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using XPath/XQuery</a:t>
            </a:r>
            <a:br>
              <a:rPr sz="28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//Customers/Customer[@Region='UK']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atabase mapp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tables &amp; fields to classes &amp;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partial classes with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ecord becomes an ob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ntext represents the data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tables, views or stored proced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difying objec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93520" y="1946160"/>
            <a:ext cx="7358040" cy="42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55320" indent="-339480"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bject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-339480">
              <a:spcBef>
                <a:spcPts val="8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</a:t>
            </a:r>
            <a:br>
              <a:rPr sz="28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context.</a:t>
            </a:r>
            <a:r>
              <a:rPr b="0" lang="en-US" sz="2500" spc="-1" strike="noStrike">
                <a:solidFill>
                  <a:srgbClr val="0070c0"/>
                </a:solidFill>
                <a:latin typeface="Inconsolata"/>
              </a:rPr>
              <a:t>Table</a:t>
            </a: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.DeleteOnSubmit(object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320" indent="-339480">
              <a:spcBef>
                <a:spcPts val="8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</a:t>
            </a:r>
            <a:br>
              <a:rPr sz="28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context.</a:t>
            </a:r>
            <a:r>
              <a:rPr b="0" lang="en-US" sz="2500" spc="-1" strike="noStrike">
                <a:solidFill>
                  <a:srgbClr val="0070c0"/>
                </a:solidFill>
                <a:latin typeface="Inconsolata"/>
              </a:rPr>
              <a:t>Table</a:t>
            </a: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.InsertOnSubmit(object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320" indent="-339480">
              <a:spcBef>
                <a:spcPts val="8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 changes back</a:t>
            </a:r>
            <a:br>
              <a:rPr sz="28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context.SubmitChanges()</a:t>
            </a:r>
            <a:br>
              <a:rPr sz="25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al - all or not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sistency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bject will be tracked by LINQ the moment it is loaded from datab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cking mechanism monitor the manipulation on relationship proper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modify one side of the relationship, LINQ will modify the other to keep it consistent.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is deleted, it could still exist in memory, but it will not cause inconsistency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currency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tic concurr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checking when SubmitChanges() is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efault, transaction will abort and an exception will be thrown when a conflict is detec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handle the conflict in the exception catch bloc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set whether or not to detect the conflict when one column get upda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nsaction/Updat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6984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update, first check whether new object is added (by tracking mechanism) if yes, insert statement will be generat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Django do her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 will not hit the database until the SubmitChanges() method is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will be translated into SQL stat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odifications will be encapsulated into a transa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nsaction/Update (cont.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exception is throw during the update, all the changes will be rolled ba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US" sz="3200" spc="-1" strike="noStrike">
                <a:solidFill>
                  <a:srgbClr val="000000"/>
                </a:solidFill>
                <a:latin typeface="Inconsolata"/>
              </a:rPr>
              <a:t>SubmitChanges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ctually one transaction. (pros and cons?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can also explicitly indicate a new transaction scop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Q to XML Class Hierarch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2120" y="60958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://msdn.microsoft.com/en-us/library/bb308960.asp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Bb308960"/>
          <p:cNvPicPr/>
          <p:nvPr/>
        </p:nvPicPr>
        <p:blipFill>
          <a:blip r:embed="rId3"/>
          <a:srcRect l="0" t="0" r="10279" b="0"/>
          <a:stretch/>
        </p:blipFill>
        <p:spPr>
          <a:xfrm>
            <a:off x="762120" y="1752480"/>
            <a:ext cx="7619760" cy="43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INQ to XM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38098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NQ to X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XML to LIN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66680" y="2209680"/>
            <a:ext cx="7848720" cy="1524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var query = from p in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where p.Ca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select new XElement(“Person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new XAttribute(“Age”, p.Ag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p.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066680" y="4419720"/>
            <a:ext cx="7848720" cy="2057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var x = new XElement(“People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from p in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where p.Ca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   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new XElement(“Person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new XAttribute(“Age”, p.Ag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	</a:t>
            </a:r>
            <a:r>
              <a:rPr b="0" lang="en-US" sz="1800" spc="-1" strike="noStrike">
                <a:solidFill>
                  <a:srgbClr val="002699"/>
                </a:solidFill>
                <a:latin typeface="Inconsolata"/>
              </a:rPr>
              <a:t>p.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Q has more control and efficiency in O/R Mapping than NHibern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Q: Externl Mapping or Attribute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ibernate: Externl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mapping, LINQ is slower than database tools such as SqlDataReader or SqlDataAdap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arge dataset, their performance are more and more simi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9280"/>
            <a:ext cx="7564320" cy="11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DO without LINQ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35804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SqlConnection con = new SqlConnection(...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con.Open()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SqlCommand cmd = new SqlCommand(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  <a:ea typeface="ヒラギノ角ゴ ProN W6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@"SELECT * FROM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  <a:ea typeface="ヒラギノ角ゴ ProN W6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WHERE c.Region = @Region", c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  <a:ea typeface="ヒラギノ角ゴ ProN W6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cmd.Parameters.AddWithValue("@Region", "UK")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DataReader dr = cmd.ExecuteReader()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while (dr.Read()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string name = dr.GetString(dr.GetOrdinal("Name")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string phone = dr.GetString(dr.GetOrdinal("Phone")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DateTime date = dr.GetDateTime(3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dr.Close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consolata"/>
              </a:rPr>
              <a:t>con.Close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Query with LINQ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#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var myCustomers = from c in customer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    where c.Region == "UK"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    select c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e LINQ quer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93880" y="1946160"/>
            <a:ext cx="735804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var goodCusts = (from c in db.Customer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    where c.PostCode.StartsWith("GY")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    orderby c.Sales descending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Inconsolata"/>
              </a:rPr>
              <a:t>    select c).Skip(10).Take(10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ocal variable type infere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can infer types from initializer assign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keyword indicates compiler inferred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strong-typ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ot like JavaScript v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when using anonymous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219320" y="4114800"/>
            <a:ext cx="7467480" cy="1676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consolata"/>
              </a:rPr>
              <a:t>var a = 10; // Simpl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consolata"/>
              </a:rPr>
              <a:t>var x = new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consolat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Inconsolata"/>
              </a:rPr>
              <a:t>Blog = “attardi”, Created = DateTime.Now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consolata"/>
              </a:rPr>
              <a:t>// Anonymous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nonymous Typ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05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new type generated on the fly without first defining it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ful for projection to select one or more fields of another structu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ype will be dynamically generated with setters and getters to corresponding memb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common methods are also provide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ther methods will be added to this typ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that is already enough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 is created and initialized by Anonymous Object Initialize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data acc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yntax to learn and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typed</a:t>
            </a:r>
            <a:br>
              <a:rPr sz="28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tch errors during compila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Se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for syntax and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>
              <a:spcBef>
                <a:spcPts val="11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able result 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useppe Attardi</cp:lastModifiedBy>
  <dcterms:modified xsi:type="dcterms:W3CDTF">2011-11-29T16:13:57Z</dcterms:modified>
  <cp:revision>1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